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7a7b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5860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简易方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828720" y="2060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用字母表示数 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5.png"/>
          <p:cNvPicPr/>
          <p:nvPr/>
        </p:nvPicPr>
        <p:blipFill>
          <a:blip r:embed="rId2"/>
          <a:stretch/>
        </p:blipFill>
        <p:spPr>
          <a:xfrm>
            <a:off x="826920" y="98100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矩形 390148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90149"/>
          <p:cNvSpPr/>
          <p:nvPr/>
        </p:nvSpPr>
        <p:spPr>
          <a:xfrm>
            <a:off x="3616560" y="479736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呈现情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>
            <a:off x="1744560" y="5337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来说说怎么解答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971640" y="4545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同学们能提出什么问题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2011320" y="49388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大杯里还剩多少克果汁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6"/>
          <p:cNvSpPr/>
          <p:nvPr/>
        </p:nvSpPr>
        <p:spPr>
          <a:xfrm>
            <a:off x="2013120" y="5689440"/>
            <a:ext cx="63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不能解答。因为不知道每杯有多少果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392199" descr="79"/>
          <p:cNvPicPr/>
          <p:nvPr/>
        </p:nvPicPr>
        <p:blipFill>
          <a:blip r:embed="rId2"/>
          <a:stretch/>
        </p:blipFill>
        <p:spPr>
          <a:xfrm>
            <a:off x="1692360" y="1916280"/>
            <a:ext cx="538308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矩形 392200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324000" y="1557360"/>
            <a:ext cx="734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含有字母的式子表示数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971640" y="4545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不能运用我们最近学习的知识解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998720" y="493884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每小杯果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393221" descr="79"/>
          <p:cNvPicPr/>
          <p:nvPr/>
        </p:nvPicPr>
        <p:blipFill>
          <a:blip r:embed="rId2"/>
          <a:stretch/>
        </p:blipFill>
        <p:spPr>
          <a:xfrm>
            <a:off x="1692360" y="1916280"/>
            <a:ext cx="5383080" cy="2519280"/>
          </a:xfrm>
          <a:prstGeom prst="rect">
            <a:avLst/>
          </a:prstGeom>
          <a:ln w="0">
            <a:noFill/>
          </a:ln>
        </p:spPr>
      </p:pic>
      <p:sp>
        <p:nvSpPr>
          <p:cNvPr id="56" name="矩形 393222"/>
          <p:cNvSpPr/>
          <p:nvPr/>
        </p:nvSpPr>
        <p:spPr>
          <a:xfrm>
            <a:off x="1816200" y="4437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94242" descr=""/>
          <p:cNvPicPr/>
          <p:nvPr/>
        </p:nvPicPr>
        <p:blipFill>
          <a:blip r:embed="rId3"/>
          <a:stretch/>
        </p:blipFill>
        <p:spPr>
          <a:xfrm>
            <a:off x="343080" y="295200"/>
            <a:ext cx="842004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03160" y="234936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要求：自己独立思考。如遇到困难，可以小组交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803160" y="2781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汇报交流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95240" y="321300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两个式子能表示还剩多少克果汁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09560" y="365436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谁看明白了怎么表示剩下多少克果汁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595520" y="4545000"/>
            <a:ext cx="59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喜欢哪个式子呢？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04960" y="4986360"/>
            <a:ext cx="59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乘法简便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写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1609560" y="411156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什么意思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1557360"/>
            <a:ext cx="7343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含有字母的式子表示数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判断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的取值范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36640" y="26128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同学们想一想，式子中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都可以表示哪些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1609560" y="304632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614600" y="4270320"/>
            <a:ext cx="59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到底表示多少合适呢？说说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900000" y="462924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监控：考虑实际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609560" y="383868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609560" y="3405240"/>
            <a:ext cx="59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行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96297"/>
          <p:cNvSpPr/>
          <p:nvPr/>
        </p:nvSpPr>
        <p:spPr>
          <a:xfrm>
            <a:off x="1311480" y="5516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24000" y="1557360"/>
            <a:ext cx="734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四）给定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代入计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合作交流 探究新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826920" y="270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问题：如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时，果汁还剩多少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833400" y="3390840"/>
            <a:ext cx="59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预设：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7317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巩固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755640" y="4292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今天学习的知识，解决这个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38240" y="4676760"/>
            <a:ext cx="51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一说你的想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98340"/>
          <p:cNvSpPr/>
          <p:nvPr/>
        </p:nvSpPr>
        <p:spPr>
          <a:xfrm>
            <a:off x="833400" y="1211400"/>
            <a:ext cx="831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仓库里有货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吨，运走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车，每车运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用式子表示仓库里剩下货物的吨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根据这个式子，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时，仓库里剩下的货物有多少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这里的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能表示哪些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98341"/>
          <p:cNvSpPr/>
          <p:nvPr/>
        </p:nvSpPr>
        <p:spPr>
          <a:xfrm>
            <a:off x="3935520" y="234936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1947960" y="3103560"/>
            <a:ext cx="59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9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32000" y="3860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能表示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4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等，但应该小于车的最大载重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9834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468360" y="2133720"/>
            <a:ext cx="763272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十三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99363"/>
          <p:cNvSpPr/>
          <p:nvPr/>
        </p:nvSpPr>
        <p:spPr>
          <a:xfrm>
            <a:off x="0" y="6021360"/>
            <a:ext cx="581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99364"/>
          <p:cNvSpPr/>
          <p:nvPr/>
        </p:nvSpPr>
        <p:spPr>
          <a:xfrm>
            <a:off x="72900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3T01:52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